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dt" idx="1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ftr" idx="1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 type="sldNum" idx="1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FCA9-8A6B-4EA9-86E8-B613889405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F886-388E-44D5-A9DA-DED438B2A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imes New Roman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10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imes New Roman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1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imes New Roman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2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imes New Roman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9cff"/>
              </a:gs>
              <a:gs pos="100000">
                <a:srgbClr val="dae1ff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892160" y="4191120"/>
            <a:ext cx="5608800" cy="609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imes New Roman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5560"/>
            <a:ext cx="9144000" cy="144756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3"/>
          </p:nvPr>
        </p:nvSpPr>
        <p:spPr>
          <a:xfrm>
            <a:off x="463680" y="640044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imes New Roman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4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imes New Roman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imes New Roman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6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imes New Roman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7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imes New Roman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8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imes New Roman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ftr" idx="9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imes New Roman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Arial"/>
              </a:rPr>
              <a:t>L’éducation inclusive dans les situations d’urgence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Changement systémique contre aide individuel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Nous tentons d’apporter des changements qui aideront chaque apprenant plutôt que de nous occuper d’un seul apprenant à la foi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0" y="3222720"/>
            <a:ext cx="5759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Arial"/>
              </a:rPr>
              <a:t>Le fait de se concentrer sur le changement du système ne nous empêche pas d’aider chaque enfant à surmonter les problèmes spécifiques auxquels il se heurte (comme le handica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disabled boy"/>
          <p:cNvPicPr/>
          <p:nvPr/>
        </p:nvPicPr>
        <p:blipFill>
          <a:blip r:embed="rId1"/>
          <a:stretch/>
        </p:blipFill>
        <p:spPr>
          <a:xfrm>
            <a:off x="5640480" y="3527280"/>
            <a:ext cx="3612960" cy="2487600"/>
          </a:xfrm>
          <a:prstGeom prst="rect">
            <a:avLst/>
          </a:prstGeom>
          <a:ln w="0">
            <a:noFill/>
          </a:ln>
        </p:spPr>
      </p:pic>
      <p:sp>
        <p:nvSpPr>
          <p:cNvPr id="546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Présence, participation et accompliss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Pour que chaque enfant se sente inclus, il doit 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être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présent 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à l’école 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participer 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(à tous les aspects de la vie scolaire) 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s’épanouir 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(ou avoir l’impression qu’il gagne à fréquenter l’école)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Ces trois niveaux sont essentiels pour rendre l’éducation inclusive, même dans les situations d’urgenc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Exemples d’éducation : inclusion ou exclusion 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Lisez en groupe ces brèves études de ca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En vous basant sur nos discussions précédentes, indiquez ce que chaque histoire illustre – exclusion, ségrégation, intégration ou inclusio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En cas de différence d’opinion au sein du groupe, chacun explique ses arguments aux autr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Que peut-on faire pour que chaque étude de cas soit plus inclusive 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L’éducation inclusive est un processus de changement continu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67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Arial"/>
              </a:rPr>
              <a:t>Il n’y a pas de différence nette entre l’éducation intégrée et inclusive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Arial"/>
              </a:rPr>
              <a:t>Les écoles peuvent pratiquer l’inclusion pour certains aspects et pas pour d’autres. Ce n’est pas un échec à condition de continuer de progresser vers davantage d’inclusion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Arial"/>
              </a:rPr>
              <a:t>L’éducation inclusive est un processus de changement continu ; nouveaux défis, nouvelles idées et nouveaux soutiens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Arial"/>
              </a:rPr>
              <a:t>La réflexion constante nous aide à identifier les problèmes qui surgissent et à les surmonter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Définition de l’éducation inclusiv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Reconnaît que tout le monde peut apprendr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Reconnaît et respecte toutes les différenc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Est un processus dynamique, souple, qui évolue constammen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Assure la présence, la participation et l’accomplisse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Requiert la participation de toutes les parties prenant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Est possible dans les environnements complexes et pauvres en ressourc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Est un processus qui dure tout au long de la vi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Relève des droits de l’homm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Contribue à mettre en place une société inclusiv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Est-ce possible dans la pratique 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Arial"/>
              </a:rPr>
              <a:t>L’éducation inclusive est souvent perçue comme étant trop difficile à mettre en œuvre dans les situations d’urgence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600" spc="-1" strike="noStrike">
                <a:solidFill>
                  <a:srgbClr val="000066"/>
                </a:solidFill>
                <a:latin typeface="Arial"/>
              </a:rPr>
              <a:t>Mais elle est possible pour autant que nous comprenions en quoi elle consiste réellement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600" spc="-1" strike="noStrike">
                <a:solidFill>
                  <a:srgbClr val="000066"/>
                </a:solidFill>
                <a:latin typeface="Arial"/>
              </a:rPr>
              <a:t>L’éducation inclusive est un processus graduel axé sur le changement et l’amélioration, pas une solution immédiate à tous les problèmes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600" spc="-1" strike="noStrike">
                <a:solidFill>
                  <a:srgbClr val="000066"/>
                </a:solidFill>
                <a:latin typeface="Arial"/>
              </a:rPr>
              <a:t>Quel que soit le contexte, chacun peut réaliser une action, si minime soit-elle, pour contribuer à l’inclusion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Aspects clés de l’éducation d’urgence devant être renforcé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es informations 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sur les personnes que nous atteignons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a reconnaissance 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du droit de chaque personne à l’éducation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’engagement 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visant à aider les personnes exclues de l’éducation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’attention 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accordée aux apprenants qui ont des difficultés à participer à l’éducation ou à en tirer profit et aux enseignants ayant besoin d’aide pour mettre en œuvre les pratiques inclusives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’assurance 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nécessaire pour identifier et surmonter les obstacles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a recherche d’informations 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et le partage d’expériences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’engagement 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de toutes les parties prenantes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Obstacles à l’inclusion dans l’éduc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Obstacles environnementau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Obstacles comportementaux e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culture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Obstacles politiqu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Obstacles liés aux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pratiqu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Obstacles liés aux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ressour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67" name="Picture 9" descr="teacher at board2"/>
          <p:cNvPicPr/>
          <p:nvPr/>
        </p:nvPicPr>
        <p:blipFill>
          <a:blip r:embed="rId1"/>
          <a:stretch/>
        </p:blipFill>
        <p:spPr>
          <a:xfrm>
            <a:off x="6829560" y="1805040"/>
            <a:ext cx="2000160" cy="24876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0" descr="cooking"/>
          <p:cNvPicPr/>
          <p:nvPr/>
        </p:nvPicPr>
        <p:blipFill>
          <a:blip r:embed="rId2"/>
          <a:stretch/>
        </p:blipFill>
        <p:spPr>
          <a:xfrm>
            <a:off x="4824360" y="2608200"/>
            <a:ext cx="2322720" cy="1736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2" descr="broken latrine"/>
          <p:cNvPicPr/>
          <p:nvPr/>
        </p:nvPicPr>
        <p:blipFill>
          <a:blip r:embed="rId3"/>
          <a:stretch/>
        </p:blipFill>
        <p:spPr>
          <a:xfrm>
            <a:off x="4094280" y="4308480"/>
            <a:ext cx="2512800" cy="20066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1" descr="girls walking"/>
          <p:cNvPicPr/>
          <p:nvPr/>
        </p:nvPicPr>
        <p:blipFill>
          <a:blip r:embed="rId4"/>
          <a:stretch/>
        </p:blipFill>
        <p:spPr>
          <a:xfrm>
            <a:off x="6175440" y="4221000"/>
            <a:ext cx="2516040" cy="1706760"/>
          </a:xfrm>
          <a:prstGeom prst="rect">
            <a:avLst/>
          </a:prstGeom>
          <a:ln w="0">
            <a:noFill/>
          </a:ln>
        </p:spPr>
      </p:pic>
      <p:sp>
        <p:nvSpPr>
          <p:cNvPr id="571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La collaboration nous aide à trouver les solutions aux obstac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18600" y="1600200"/>
            <a:ext cx="872964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Nous ne pouvons pas, à nous seuls, identifier et surmonter tous les obstacles à l’inclus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a formation ne peut pas vous apporter toutes les solution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’éducation inclusive est un processus collaboratif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Nous devons travailler avec les membres d’autres secteurs, parties prenantes, organisations et communauté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74" name="Picture 6" descr="community meeting"/>
          <p:cNvPicPr/>
          <p:nvPr/>
        </p:nvPicPr>
        <p:blipFill>
          <a:blip r:embed="rId1"/>
          <a:stretch/>
        </p:blipFill>
        <p:spPr>
          <a:xfrm>
            <a:off x="1087560" y="4638600"/>
            <a:ext cx="2259000" cy="16923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mapping"/>
          <p:cNvPicPr/>
          <p:nvPr/>
        </p:nvPicPr>
        <p:blipFill>
          <a:blip r:embed="rId2"/>
          <a:stretch/>
        </p:blipFill>
        <p:spPr>
          <a:xfrm>
            <a:off x="5187960" y="4633920"/>
            <a:ext cx="2281320" cy="1701720"/>
          </a:xfrm>
          <a:prstGeom prst="rect">
            <a:avLst/>
          </a:prstGeom>
          <a:ln w="0">
            <a:noFill/>
          </a:ln>
        </p:spPr>
      </p:pic>
      <p:sp>
        <p:nvSpPr>
          <p:cNvPr id="576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Leadership/consei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Incluez dans l’équipe une personne possédant des connaissances sur l’éducation inclusive ou une expérience en la matière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, ou qui a du temps et est disposée à apprendre rapidement et à recueillir des information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Objectifs pédagogiqu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6840" y="1600200"/>
            <a:ext cx="831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Comprendre les principes élémentaires étayant l’éducation inclusiv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Comprendre les obstacles à l’inclusion, savoir comment les identifier et les surmonter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Évaluation de la situ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Découvrez qui est exclu de l’éducation et au sein de celle-ci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Les enfants exclus sont parfois « cachés »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Mettez-vous en relation avec les personnes/organisations qui connaissent mieux les groupes exclu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Interrogez les enfants – ils savent souvent quels sont les enfants exclus et les raisons de cette exclusio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Les raisons de l’exclus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284360" y="1684440"/>
            <a:ext cx="470844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Rassemblez des informations sur les </a:t>
            </a:r>
            <a:r>
              <a:rPr b="1" i="1" lang="fr-FR" sz="2400" spc="-1" strike="noStrike">
                <a:solidFill>
                  <a:srgbClr val="000066"/>
                </a:solidFill>
                <a:latin typeface="Arial"/>
              </a:rPr>
              <a:t>raisons 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de</a:t>
            </a:r>
            <a:r>
              <a:rPr b="1" i="1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’exclusion des enfants, de leur manque de participation ou d’accomplissement dans l’éducation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Connaître les raisons de l’exclusion nous aide à nous faire une idée précise des obstacles à l’inclusion et à trouver les solutions pertinent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85" name="Picture 6" descr="kids circle 2"/>
          <p:cNvPicPr/>
          <p:nvPr/>
        </p:nvPicPr>
        <p:blipFill>
          <a:blip r:embed="rId1"/>
          <a:stretch/>
        </p:blipFill>
        <p:spPr>
          <a:xfrm>
            <a:off x="220680" y="2368440"/>
            <a:ext cx="3919680" cy="2940120"/>
          </a:xfrm>
          <a:prstGeom prst="rect">
            <a:avLst/>
          </a:prstGeom>
          <a:ln w="0">
            <a:noFill/>
          </a:ln>
        </p:spPr>
      </p:pic>
      <p:sp>
        <p:nvSpPr>
          <p:cNvPr id="586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onsult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Consultez les parties prenantes à l’aide de méthodes participatives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Recueillez leurs opinions en ce qui concerne 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les obstacles à la présence, la participation ou l’accomplissement des enfants à l’école 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les solutions 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le soutien qu’ell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peuvent apporter</a:t>
            </a: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89" name="Picture 5" descr="listen to kids"/>
          <p:cNvPicPr/>
          <p:nvPr/>
        </p:nvPicPr>
        <p:blipFill>
          <a:blip r:embed="rId1"/>
          <a:stretch/>
        </p:blipFill>
        <p:spPr>
          <a:xfrm>
            <a:off x="4708440" y="4064040"/>
            <a:ext cx="3214800" cy="2108160"/>
          </a:xfrm>
          <a:prstGeom prst="rect">
            <a:avLst/>
          </a:prstGeom>
          <a:ln w="0">
            <a:noFill/>
          </a:ln>
        </p:spPr>
      </p:pic>
      <p:sp>
        <p:nvSpPr>
          <p:cNvPr id="590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Soutien aux enseigna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854520" y="1670040"/>
            <a:ext cx="506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Concentrez-vous sur les enseignants/le personnel de l’éduc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Aidez-les à apprendre à résoudre les problèmes petit à petit pour acquérir de l’assuranc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Soutenez les enseignants pour qu’ils s’aident mutuellement à résoudre les problèmes liés à l’inclusion par le biais de systèmes de soutien entre pairs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93" name="Picture 5" descr="teacher singing"/>
          <p:cNvPicPr/>
          <p:nvPr/>
        </p:nvPicPr>
        <p:blipFill>
          <a:blip r:embed="rId1"/>
          <a:stretch/>
        </p:blipFill>
        <p:spPr>
          <a:xfrm>
            <a:off x="306360" y="2873520"/>
            <a:ext cx="3390840" cy="2260440"/>
          </a:xfrm>
          <a:prstGeom prst="rect">
            <a:avLst/>
          </a:prstGeom>
          <a:ln w="0">
            <a:noFill/>
          </a:ln>
        </p:spPr>
      </p:pic>
      <p:sp>
        <p:nvSpPr>
          <p:cNvPr id="594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Analyse de l’étude de c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Lisez l’étude de cas en petits groupes. Débattez des questions suivantes 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70760" indent="-33192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À quels types d’obstacles cette histoire fait-elle allusion 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70760" indent="-33192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Quels obstacles ont été surmontés 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70760" indent="-33192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Quels obstacles n’ont pas (encore) été surmontés ? Comment suggérez-vous de le faire 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70760" indent="-33192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Que pourrait-on améliorer au niveau de l’identification des obstacles 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Se concentrer sur des obstacles multip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L’exclusion de l’éducation ou au sein de celle-ci n’est généralement pas le résultat d’un problème isolé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Un ensemble de facteurs est responsable du caractère inaccessible, peu accueillant ou pertinent de l’éducatio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Les obstacles environnementaux ou liés aux ressources sont souvent les plus évidents, mais nous devons également détecter les autres types d’obstacl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Résumé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Arial"/>
              </a:rPr>
              <a:t>L’éducation inclusive :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fr-FR" sz="2100" spc="-1" strike="noStrike">
                <a:solidFill>
                  <a:srgbClr val="000066"/>
                </a:solidFill>
                <a:latin typeface="Arial"/>
              </a:rPr>
              <a:t>Couvre un large éventail de questions</a:t>
            </a:r>
            <a:r>
              <a:rPr b="0" lang="fr-FR" sz="2100" spc="-1" strike="noStrike">
                <a:solidFill>
                  <a:srgbClr val="000066"/>
                </a:solidFill>
                <a:latin typeface="Arial"/>
              </a:rPr>
              <a:t> ; elle ne se limite pas au handicap.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Arial"/>
              </a:rPr>
              <a:t>Est un</a:t>
            </a:r>
            <a:r>
              <a:rPr b="1" lang="fr-FR" sz="2100" spc="-1" strike="noStrike">
                <a:solidFill>
                  <a:srgbClr val="000066"/>
                </a:solidFill>
                <a:latin typeface="Arial"/>
              </a:rPr>
              <a:t> processus continu </a:t>
            </a:r>
            <a:r>
              <a:rPr b="0" lang="fr-FR" sz="2100" spc="-1" strike="noStrike">
                <a:solidFill>
                  <a:srgbClr val="000066"/>
                </a:solidFill>
                <a:latin typeface="Arial"/>
              </a:rPr>
              <a:t>de changement du système (notre façon de faire) qui adopte une </a:t>
            </a:r>
            <a:r>
              <a:rPr b="1" lang="fr-FR" sz="2100" spc="-1" strike="noStrike">
                <a:solidFill>
                  <a:srgbClr val="000066"/>
                </a:solidFill>
                <a:latin typeface="Arial"/>
              </a:rPr>
              <a:t>approche axée sur la résolution des problèmes.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Arial"/>
              </a:rPr>
              <a:t>Se concentre sur la </a:t>
            </a:r>
            <a:r>
              <a:rPr b="1" lang="fr-FR" sz="2100" spc="-1" strike="noStrike">
                <a:solidFill>
                  <a:srgbClr val="000066"/>
                </a:solidFill>
                <a:latin typeface="Arial"/>
              </a:rPr>
              <a:t>présence, la participation et l’accomplissement.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Arial"/>
              </a:rPr>
              <a:t>Consiste à </a:t>
            </a:r>
            <a:r>
              <a:rPr b="1" lang="fr-FR" sz="2100" spc="-1" strike="noStrike">
                <a:solidFill>
                  <a:srgbClr val="000066"/>
                </a:solidFill>
                <a:latin typeface="Arial"/>
              </a:rPr>
              <a:t>changer notre mode de travail actuel</a:t>
            </a:r>
            <a:r>
              <a:rPr b="0" lang="fr-FR" sz="2100" spc="-1" strike="noStrike">
                <a:solidFill>
                  <a:srgbClr val="000066"/>
                </a:solidFill>
                <a:latin typeface="Arial"/>
              </a:rPr>
              <a:t>, pas à mettre en œuvre des initiatives éducatives nouvelles ou distinctes.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Arial"/>
              </a:rPr>
              <a:t>S’appuie sur l’</a:t>
            </a:r>
            <a:r>
              <a:rPr b="1" lang="fr-FR" sz="2100" spc="-1" strike="noStrike">
                <a:solidFill>
                  <a:srgbClr val="000066"/>
                </a:solidFill>
                <a:latin typeface="Arial"/>
              </a:rPr>
              <a:t>identification des obstacles </a:t>
            </a:r>
            <a:r>
              <a:rPr b="0" lang="fr-FR" sz="2100" spc="-1" strike="noStrike">
                <a:solidFill>
                  <a:srgbClr val="000066"/>
                </a:solidFill>
                <a:latin typeface="Arial"/>
              </a:rPr>
              <a:t>à l’inclusion et le </a:t>
            </a:r>
            <a:r>
              <a:rPr b="1" lang="fr-FR" sz="2100" spc="-1" strike="noStrike">
                <a:solidFill>
                  <a:srgbClr val="000066"/>
                </a:solidFill>
                <a:latin typeface="Arial"/>
              </a:rPr>
              <a:t>travail collaboratif afin de trouver des solutions </a:t>
            </a:r>
            <a:r>
              <a:rPr b="0" lang="fr-FR" sz="2100" spc="-1" strike="noStrike">
                <a:solidFill>
                  <a:srgbClr val="000066"/>
                </a:solidFill>
                <a:latin typeface="Arial"/>
              </a:rPr>
              <a:t>– on avance petit à petit.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Diapositives correspondant aux activités complémentair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Activité de réflexion personnel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Travaillez en binôm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Une personne parle, l’autre écout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Pensez à un moment de votre propre scolarisation où vous vous êtes senti(e) à l’écart et/ou vous n’avez pas obtenu de bons résultat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Racontez ce souvenir à votre partenaire. Que s’est-il passé ? Pourquoi ne vous êtes-vous pas joint(e) aux autres et/ou n’avez-vous pas obtenu de bons résultats ? Quelqu’un a-t-il essayé de vous aider – si oui, qui et comment 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Si vous disposez d’assez de temps, inversez les rôles et recommencez l’activité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Soutenir l’inclusion grâce aux normes minima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Lisez de nouveau les études de ca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Consultez les normes minimales. Identifiez quelles normes et actions clés sont les plus pertinentes pour chaque étude de ca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En vous référant aux normes minimales, trouvez au moins une intervention susceptible de contribuer à rendre plus inclusive la situation décrite dans l’étude de cas. Exposez vos argumen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Qu’est-ce que l’éducation inclusive 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tudiez les photographi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Débattez en groupe des questions suivantes 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Lesquelles de ces photos illustrent l’éducation inclusive ? Expliquez pourquoi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Quelles questions relatives à l’inclusion/l’exclusion les photos illustrent-elles 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Mise en contexte de la défini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Relisez la définition et étudiez-la pendant 2 minutes. Souhaitez-vous l’enrichir ou la modifier afin de la rendre plus pertinente par rapport au contexte dans lequel vous vivez ou travaillez 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Travaillez en petits groupes. Échangez vos opinions sur la définition et la manière de l’adapter à votre context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Recherche de solution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À l’aide des documents de référence, élaborez un plan d’action pour résoudre un ou plusieurs des problèmes que vous avez relevés dans l’étude de cas. Tenez compte 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22520" indent="-311040"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e l’objectif 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– ce que vous espérez accomplir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22520" indent="-311040"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e l’approche 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– ce que vous allez faire et comment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22520" indent="-311040"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es parties prenantes 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– qui fera quoi, qui aidera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22520" indent="-311040"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e l’échéance 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– de combien de temps vous aurez besoin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22520" indent="-311040"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es ressources 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– comment allez-vous le financer ou trouver des ressources « gratuites » ou à faible coût ?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22520" indent="-311040"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es indicateurs 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– comment saurez-vous si l’intervention entraîne des résultats positifs ?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« Groupes de conseil »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Travaillez en petits group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Une personne présente brièvement un obstacle à l’inclusion auquel elle se heurte ou s’est heurtée dans le cadre de ses activités éducativ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es autres membres du groupe avancent des solutions ou suggèrent où s’adresser pour obtenir plus d’informations ou des contacts utiles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Tous les membres du groupe doivent avoir la possibilité d’exposer un problème et d’obtenir des conseils. Chaque groupe doit essayer de couvrir les thèmes suivants : environnement, politiques, pratiques, attitudes et ressourc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Impressions diverses de l’éducation inclusiv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34520" y="1600200"/>
            <a:ext cx="5668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Nous interprétons tous les situations de manière différent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Dans toute situation, certaines personnes se sentent incluses tandis que d’autres se sentent exclu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Une situation peut exclure des apprenants auxquels nous n’avions pas songé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Nous devons comprendre comment </a:t>
            </a:r>
            <a:r>
              <a:rPr b="0" i="1" lang="fr-FR" sz="2400" spc="-1" strike="noStrike">
                <a:solidFill>
                  <a:srgbClr val="000066"/>
                </a:solidFill>
                <a:latin typeface="Arial"/>
              </a:rPr>
              <a:t>toutes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les parties prenantes interprètent et ressentent l’inclusion/l’exclus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1" name="Picture 4" descr="CNXT0017"/>
          <p:cNvPicPr/>
          <p:nvPr/>
        </p:nvPicPr>
        <p:blipFill>
          <a:blip r:embed="rId1"/>
          <a:stretch/>
        </p:blipFill>
        <p:spPr>
          <a:xfrm>
            <a:off x="6261120" y="2701800"/>
            <a:ext cx="2658960" cy="2149560"/>
          </a:xfrm>
          <a:prstGeom prst="rect">
            <a:avLst/>
          </a:prstGeom>
          <a:ln w="0">
            <a:noFill/>
          </a:ln>
        </p:spPr>
      </p:pic>
      <p:sp>
        <p:nvSpPr>
          <p:cNvPr id="522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Changement systémiqu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465360" y="1684080"/>
            <a:ext cx="53913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Arial"/>
              </a:rPr>
              <a:t>La tâche visant à rendre l’éducation plus inclusive couvre un large éventail de questions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Arial"/>
              </a:rPr>
              <a:t>De nombreuses questions liées à l’inclusion ne sont pas spécifiques à un seul groupe d’apprenants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600" spc="-1" strike="noStrike">
                <a:solidFill>
                  <a:srgbClr val="000066"/>
                </a:solidFill>
                <a:latin typeface="Arial"/>
              </a:rPr>
              <a:t>L’éducation inclusive consiste à faire évoluer le système, non à contraindre les enfants à s’adapter au système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5" name="Picture 4" descr="113-1349_IMG"/>
          <p:cNvPicPr/>
          <p:nvPr/>
        </p:nvPicPr>
        <p:blipFill>
          <a:blip r:embed="rId1"/>
          <a:stretch/>
        </p:blipFill>
        <p:spPr>
          <a:xfrm>
            <a:off x="285840" y="2868480"/>
            <a:ext cx="2940120" cy="2205000"/>
          </a:xfrm>
          <a:prstGeom prst="rect">
            <a:avLst/>
          </a:prstGeom>
          <a:ln w="0">
            <a:noFill/>
          </a:ln>
        </p:spPr>
      </p:pic>
      <p:sp>
        <p:nvSpPr>
          <p:cNvPr id="526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Éducation spécialisée/séparé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187200" y="2451240"/>
            <a:ext cx="5435640" cy="3117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29" name="Text Box 6"/>
          <p:cNvSpPr/>
          <p:nvPr/>
        </p:nvSpPr>
        <p:spPr>
          <a:xfrm>
            <a:off x="5724360" y="2544840"/>
            <a:ext cx="30974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système éducatif pour les enfants « normaux » (pinces rondes) et un autre pour les enfants « en difficulté » (pinces carré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Éducation intégré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4" descr=""/>
          <p:cNvPicPr/>
          <p:nvPr/>
        </p:nvPicPr>
        <p:blipFill>
          <a:blip r:embed="rId1"/>
          <a:stretch/>
        </p:blipFill>
        <p:spPr>
          <a:xfrm>
            <a:off x="399960" y="2354400"/>
            <a:ext cx="5295960" cy="3348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33" name="Text Box 6"/>
          <p:cNvSpPr/>
          <p:nvPr/>
        </p:nvSpPr>
        <p:spPr>
          <a:xfrm>
            <a:off x="5811840" y="1460520"/>
            <a:ext cx="3079800" cy="42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iste à tenter de changer les enfants pour qu’ils s’adaptent au système « courant » (cela revient à essayer de faire entrer des pinces carrées dans des trous ronds). Le système est immuable. L’enfant doit s’adapter ou il risque d’échou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36600" y="19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Éducation inclusiv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336600" y="2368440"/>
            <a:ext cx="5275080" cy="3146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37" name="Text Box 6"/>
          <p:cNvSpPr/>
          <p:nvPr/>
        </p:nvSpPr>
        <p:spPr>
          <a:xfrm>
            <a:off x="5987880" y="1879560"/>
            <a:ext cx="28591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s les enfants sont différents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ou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peuvent apprendre – nous modifions le système pour qu’il convienne à tous les enfants et que tous aient accès à l’é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ooter Placeholder 1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« Changer le système » dans les situations d’urgen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75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66"/>
                </a:solidFill>
                <a:latin typeface="Arial"/>
              </a:rPr>
              <a:t>Absence de système éducatif opérationnel. Est-il impossible de faire des changements au niveau du système ?</a:t>
            </a:r>
            <a:endParaRPr b="0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66"/>
                </a:solidFill>
                <a:latin typeface="Arial"/>
              </a:rPr>
              <a:t>Dans les situations d’urgence, il faut entendre par « changement du système » : « changer notre façon de faire en mettant au point une approche axée sur la résolution des problèmes ».</a:t>
            </a:r>
            <a:endParaRPr b="0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300" spc="-1" strike="noStrike">
                <a:solidFill>
                  <a:srgbClr val="000066"/>
                </a:solidFill>
                <a:latin typeface="Arial"/>
              </a:rPr>
              <a:t>Il faut soutenir les équipes de projets/les enseignants pour qu’ils apprennent à « résoudre les problèmes liés à l’inclusion ».</a:t>
            </a:r>
            <a:endParaRPr b="0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66"/>
                </a:solidFill>
                <a:latin typeface="Arial"/>
              </a:rPr>
              <a:t>Ils progressent petit à petit vers l’inclusion (légère évolution d’une attitude ou d’une pratique) et acquièrent ainsi l’assurance nécessaire pour amener des changements plus importants.</a:t>
            </a:r>
            <a:endParaRPr b="0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3:31:00Z</dcterms:created>
  <dc:creator>Lynne Bethke</dc:creator>
  <dc:description/>
  <dc:language>en-US</dc:language>
  <cp:lastModifiedBy>MLN</cp:lastModifiedBy>
  <cp:lastPrinted>2012-03-02T16:34:27Z</cp:lastPrinted>
  <dcterms:modified xsi:type="dcterms:W3CDTF">2014-06-19T09:04:34Z</dcterms:modified>
  <cp:revision>458</cp:revision>
  <dc:subject/>
  <dc:title>Education in Emergencies Programme Design and Plan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Tool</vt:lpwstr>
  </property>
  <property fmtid="{D5CDD505-2E9C-101B-9397-08002B2CF9AE}" pid="3" name="ContentTypeId">
    <vt:lpwstr>0x010100D52189832E060742ABF7774652D4F97600F4F0EE4DD1CB634A8A778A62A6605817030048D4E980AFB26F42AC0EE168ACE89204</vt:lpwstr>
  </property>
  <property fmtid="{D5CDD505-2E9C-101B-9397-08002B2CF9AE}" pid="4" name="ORClusterCAS">
    <vt:lpwstr/>
  </property>
  <property fmtid="{D5CDD505-2E9C-101B-9397-08002B2CF9AE}" pid="5" name="ORClusterMultiLookup">
    <vt:lpwstr/>
  </property>
  <property fmtid="{D5CDD505-2E9C-101B-9397-08002B2CF9AE}" pid="6" name="ORClusterMultiLookupText">
    <vt:lpwstr/>
  </property>
  <property fmtid="{D5CDD505-2E9C-101B-9397-08002B2CF9AE}" pid="7" name="ORCoordinateX">
    <vt:lpwstr/>
  </property>
  <property fmtid="{D5CDD505-2E9C-101B-9397-08002B2CF9AE}" pid="8" name="ORCoordinateY">
    <vt:lpwstr/>
  </property>
  <property fmtid="{D5CDD505-2E9C-101B-9397-08002B2CF9AE}" pid="9" name="ORCopyRight">
    <vt:lpwstr/>
  </property>
  <property fmtid="{D5CDD505-2E9C-101B-9397-08002B2CF9AE}" pid="10" name="ORCountryDivMultiLookup">
    <vt:lpwstr/>
  </property>
  <property fmtid="{D5CDD505-2E9C-101B-9397-08002B2CF9AE}" pid="11" name="ORCountryMultiLookup">
    <vt:lpwstr/>
  </property>
  <property fmtid="{D5CDD505-2E9C-101B-9397-08002B2CF9AE}" pid="12" name="ORCreationDate">
    <vt:lpwstr>2011-01-06T00:00:00Z</vt:lpwstr>
  </property>
  <property fmtid="{D5CDD505-2E9C-101B-9397-08002B2CF9AE}" pid="13" name="ORCrossCuttingMultiLookup">
    <vt:lpwstr/>
  </property>
  <property fmtid="{D5CDD505-2E9C-101B-9397-08002B2CF9AE}" pid="14" name="ORGLIDENumber">
    <vt:lpwstr/>
  </property>
  <property fmtid="{D5CDD505-2E9C-101B-9397-08002B2CF9AE}" pid="15" name="ORKeydocument">
    <vt:lpwstr>0</vt:lpwstr>
  </property>
  <property fmtid="{D5CDD505-2E9C-101B-9397-08002B2CF9AE}" pid="16" name="ORKeywordsMultiLookup">
    <vt:lpwstr>9;#Education;#47;#Emergency</vt:lpwstr>
  </property>
  <property fmtid="{D5CDD505-2E9C-101B-9397-08002B2CF9AE}" pid="17" name="ORLanguageLookup">
    <vt:lpwstr>3</vt:lpwstr>
  </property>
  <property fmtid="{D5CDD505-2E9C-101B-9397-08002B2CF9AE}" pid="18" name="ORLocationCAS">
    <vt:lpwstr/>
  </property>
  <property fmtid="{D5CDD505-2E9C-101B-9397-08002B2CF9AE}" pid="19" name="ORPCODES2MultiLookup">
    <vt:lpwstr/>
  </property>
  <property fmtid="{D5CDD505-2E9C-101B-9397-08002B2CF9AE}" pid="20" name="ORPCODESMultiLookup">
    <vt:lpwstr/>
  </property>
  <property fmtid="{D5CDD505-2E9C-101B-9397-08002B2CF9AE}" pid="21" name="ORParentContentType">
    <vt:lpwstr>Training and Resource</vt:lpwstr>
  </property>
  <property fmtid="{D5CDD505-2E9C-101B-9397-08002B2CF9AE}" pid="22" name="ORRegionMultiLookup">
    <vt:lpwstr/>
  </property>
  <property fmtid="{D5CDD505-2E9C-101B-9397-08002B2CF9AE}" pid="23" name="ORSubClusterMultiLookup">
    <vt:lpwstr/>
  </property>
  <property fmtid="{D5CDD505-2E9C-101B-9397-08002B2CF9AE}" pid="24" name="ORSupplierLookup">
    <vt:lpwstr>0</vt:lpwstr>
  </property>
  <property fmtid="{D5CDD505-2E9C-101B-9397-08002B2CF9AE}" pid="25" name="PublishingRollupImage">
    <vt:lpwstr/>
  </property>
</Properties>
</file>